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F81-DE67-4B6F-9EBC-8421260B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E91-2224-47DC-A6CA-40C39A45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C81-F112-4C42-947E-3BCA77F3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A7D-69E3-4001-9FEA-71BFCCC5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2B1-9C19-43AD-9BC7-5A4C417B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AEF-9B25-4F4E-8AC6-BE7818E2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8082-2789-4D24-A1CD-30DC8C46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B27-3489-4F3A-9C0D-8421E85F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678-040C-46A8-B11A-5B03B606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F51-36FE-4E5C-B0F3-C6B420F5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413-F968-43C3-93FE-2AE9BDD0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E5E-15A8-4B00-9E51-FABAC4F7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9A96-8B67-4172-A88E-45D16BB704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5.xml"/><Relationship Id="rId3" Type="http://schemas.openxmlformats.org/officeDocument/2006/relationships/slide" Target="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6.xml"/><Relationship Id="rId3" Type="http://schemas.openxmlformats.org/officeDocument/2006/relationships/slide" Target=""/><Relationship Id="rId4" Type="http://schemas.openxmlformats.org/officeDocument/2006/relationships/slide" Target="slide12.xml"/><Relationship Id="rId5" Type="http://schemas.openxmlformats.org/officeDocument/2006/relationships/slide" Target="slide3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slide15.xml"/><Relationship Id="rId5" Type="http://schemas.openxmlformats.org/officeDocument/2006/relationships/slide" Target="slide3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" Target=""/><Relationship Id="rId4" Type="http://schemas.openxmlformats.org/officeDocument/2006/relationships/slide" Target="slide18.xml"/><Relationship Id="rId5" Type="http://schemas.openxmlformats.org/officeDocument/2006/relationships/slide" Target="slide3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slide" Target="slide9.xml"/><Relationship Id="rId5" Type="http://schemas.openxmlformats.org/officeDocument/2006/relationships/slide" Target="slide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94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Текст»   5 класс_x000b__x000b_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оставитель: Иванова Татья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>
            <a:hlinkClick r:id="rId1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руп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мматиче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>
            <a:hlinkClick r:id="rId3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тдель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>
            <a:hlinkClick r:id="rId5" action="ppaction://hlinksldjump"/>
          </p:cNvPr>
          <p:cNvSpPr/>
          <p:nvPr/>
        </p:nvSpPr>
        <p:spPr>
          <a:xfrm>
            <a:off x="114300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х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пределё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следова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rId4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овор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>
            <a:hlinkClick r:id="rId6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2:25:28Z</dcterms:created>
  <dc:creator>-</dc:creator>
  <dc:description/>
  <dc:language>en-US</dc:language>
  <cp:lastModifiedBy>Customer</cp:lastModifiedBy>
  <dcterms:modified xsi:type="dcterms:W3CDTF">2001-12-31T20:42:49Z</dcterms:modified>
  <cp:revision>9</cp:revision>
  <dc:subject/>
  <dc:title>Сложение и вычитание в пределах 100 с переходом через разряд. Тест.</dc:title>
</cp:coreProperties>
</file>