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431-2A50-4A4D-BBF0-2EFC4784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C5C-9E67-479F-828D-A42C01DE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F0F-8E07-4588-BF50-14D5F76C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9FE-AF5F-4804-B443-00F79E20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12A-635C-416B-859F-F6FC03E5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CBC-598D-4439-8853-BE627F94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FBE-9D90-4F47-9C2C-5A9B8480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1D5-4970-4EF8-B2C0-3D1DFA20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83A-2EC6-4A51-B90B-1380247B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D64-EA96-4F1C-8CAE-4FB196D1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DD44-47BE-4B6C-972B-69A5DDFA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E9D-DA4F-4E59-8960-4EAF8581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C14E-5324-4AC0-9590-A7DDF66D24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5.xml"/><Relationship Id="rId3" Type="http://schemas.openxmlformats.org/officeDocument/2006/relationships/slide" Target="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6.xml"/><Relationship Id="rId3" Type="http://schemas.openxmlformats.org/officeDocument/2006/relationships/slide" Target=""/><Relationship Id="rId4" Type="http://schemas.openxmlformats.org/officeDocument/2006/relationships/slide" Target="slide12.xml"/><Relationship Id="rId5" Type="http://schemas.openxmlformats.org/officeDocument/2006/relationships/slide" Target="slide3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slide15.xml"/><Relationship Id="rId5" Type="http://schemas.openxmlformats.org/officeDocument/2006/relationships/slide" Target="slide3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" Target=""/><Relationship Id="rId4" Type="http://schemas.openxmlformats.org/officeDocument/2006/relationships/slide" Target="slide18.xml"/><Relationship Id="rId5" Type="http://schemas.openxmlformats.org/officeDocument/2006/relationships/slide" Target="slide3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slide" Target="slide9.xml"/><Relationship Id="rId5" Type="http://schemas.openxmlformats.org/officeDocument/2006/relationships/slide" Target="slide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9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Текст»   5 класс_x000b__x000b_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ставитель: Иванов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мматиче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>
            <a:hlinkClick r:id="rId3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тдель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>
            <a:hlinkClick r:id="rId5" action="ppaction://hlinksldjump"/>
          </p:cNvPr>
          <p:cNvSpPr/>
          <p:nvPr/>
        </p:nvSpPr>
        <p:spPr>
          <a:xfrm>
            <a:off x="114300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х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пределё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следова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rId4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овор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>
            <a:hlinkClick r:id="rId6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2:25:28Z</dcterms:created>
  <dc:creator>-</dc:creator>
  <dc:description/>
  <dc:language>en-US</dc:language>
  <cp:lastModifiedBy>Customer</cp:lastModifiedBy>
  <dcterms:modified xsi:type="dcterms:W3CDTF">2001-12-31T20:42:49Z</dcterms:modified>
  <cp:revision>9</cp:revision>
  <dc:subject/>
  <dc:title>Сложение и вычитание в пределах 100 с переходом через разряд. Тест.</dc:title>
</cp:coreProperties>
</file>