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F38-D78E-4EE7-93C3-BA86D439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D8B-840E-4408-B23B-D5A87D63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49AA-4D8A-4C73-9E43-BB17E0DD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DC3-510E-4F58-86CB-08DA1DC5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C17-F66C-4D53-80DF-BB90FB88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43F-D55D-47E8-91D9-00C89AC9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7C0-D06A-46A3-9967-B6AD7944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7FF-4242-4C01-BEBD-7EF865B3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197-3274-4094-97A6-0AEE0D8F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D10-1981-4E13-8876-F775E9F8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38C-6134-4F65-8C59-1D7F1427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74E-8677-4241-A256-448EAE5D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0ACC-588E-411E-A92F-F74DB9F6FB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5.xml"/><Relationship Id="rId3" Type="http://schemas.openxmlformats.org/officeDocument/2006/relationships/slide" Target="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6.xml"/><Relationship Id="rId3" Type="http://schemas.openxmlformats.org/officeDocument/2006/relationships/slide" Target=""/><Relationship Id="rId4" Type="http://schemas.openxmlformats.org/officeDocument/2006/relationships/slide" Target="slide12.xml"/><Relationship Id="rId5" Type="http://schemas.openxmlformats.org/officeDocument/2006/relationships/slide" Target="slide3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4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8.xml"/><Relationship Id="rId3" Type="http://schemas.openxmlformats.org/officeDocument/2006/relationships/slide" Target=""/><Relationship Id="rId4" Type="http://schemas.openxmlformats.org/officeDocument/2006/relationships/slide" Target="slide15.xml"/><Relationship Id="rId5" Type="http://schemas.openxmlformats.org/officeDocument/2006/relationships/slide" Target="slide3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0.xml"/><Relationship Id="rId3" Type="http://schemas.openxmlformats.org/officeDocument/2006/relationships/slide" Target=""/><Relationship Id="rId4" Type="http://schemas.openxmlformats.org/officeDocument/2006/relationships/slide" Target="slide18.xml"/><Relationship Id="rId5" Type="http://schemas.openxmlformats.org/officeDocument/2006/relationships/slide" Target="slide3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3.xml"/><Relationship Id="rId3" Type="http://schemas.openxmlformats.org/officeDocument/2006/relationships/slide" Target=""/><Relationship Id="rId4" Type="http://schemas.openxmlformats.org/officeDocument/2006/relationships/slide" Target="slide9.xml"/><Relationship Id="rId5" Type="http://schemas.openxmlformats.org/officeDocument/2006/relationships/slide" Target="slide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194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Текст»   5 класс_x000b__x000b_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оставитель: Иванова Татьяна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Учитель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>
            <a:hlinkClick r:id="rId1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Груп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мматиче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>
            <a:hlinkClick r:id="rId3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тдель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>
            <a:hlinkClick r:id="rId5" action="ppaction://hlinksldjump"/>
          </p:cNvPr>
          <p:cNvSpPr/>
          <p:nvPr/>
        </p:nvSpPr>
        <p:spPr>
          <a:xfrm>
            <a:off x="114300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ложенных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пределё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следова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rId4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овор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>
            <a:hlinkClick r:id="rId6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2:25:28Z</dcterms:created>
  <dc:creator>-</dc:creator>
  <dc:description/>
  <dc:language>en-US</dc:language>
  <cp:lastModifiedBy>Customer</cp:lastModifiedBy>
  <dcterms:modified xsi:type="dcterms:W3CDTF">2001-12-31T20:42:49Z</dcterms:modified>
  <cp:revision>9</cp:revision>
  <dc:subject/>
  <dc:title>Сложение и вычитание в пределах 100 с переходом через разряд. Тест.</dc:title>
</cp:coreProperties>
</file>