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51C8-0372-424F-9E95-E82AE37AE3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9049DF-00DA-4F12-8BB6-E96DFA1DA4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AD85-BB27-4608-AD10-256A4AD5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CAB-ECE2-4BCF-B354-749BAA66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29A-B35E-43B5-95D0-212E102F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8FE-9C9F-4BD5-BDFD-1A1A799D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412-5E06-4B82-B35D-C8D6D581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4B5-A1F3-4668-99A7-C9C7AD0B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4A4-3FB0-4041-9676-B72822D2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5D0-5922-4C2A-B458-450C32A9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B50-ABD6-46D6-9800-18C8FCFD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BE3-E88D-4683-8C51-784ED582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8D3-12C8-4A75-9AD3-4E0868C5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35A-54A2-40DE-B180-88AFF35F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6314-A6E0-4B94-B074-9D5B7A83D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00040" y="5000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Иванова Татьяна Сергеевна, учитель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2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07:25Z</dcterms:modified>
  <cp:revision>5</cp:revision>
  <dc:subject/>
  <dc:title>Слайд 1</dc:title>
</cp:coreProperties>
</file>