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2BAC-31DD-47F8-8149-5EDE0B0C4A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998FAD-C798-4F59-86FE-6413B47BC7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618-C288-4961-87E5-438DDB65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CEA-A73E-4BF1-AFD1-BAFF9604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32D-FE70-441E-B140-0EB6BECC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997-2400-49BD-928A-2E464C24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FB2-B9B3-4A40-97BB-B64DBBF9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3BB-5F83-4F49-882B-F3DCD1A2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BB6-F434-4CFA-B4E8-37376225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BCF-B092-4B6E-BFA3-EBF6EBDD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6C9-0F5D-4449-8C2E-4D6512EB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79C-23F5-435B-A77F-CE8C768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68D-6D82-401E-8EA6-96DF5578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D10-5509-4390-AD28-D2CCCFCA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27A7-0DF5-4CD7-B4D1-A3A978E865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0040" y="5000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Иванова Татьяна Сергеевна, 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2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07:25Z</dcterms:modified>
  <cp:revision>5</cp:revision>
  <dc:subject/>
  <dc:title>Слайд 1</dc:title>
</cp:coreProperties>
</file>