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F250-CB98-40AE-8757-BC564B69A5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9625C1-F486-48C3-913E-BEE4A11CDB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32F-3F40-445A-BED4-479680B9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73D-FC3D-45B7-AB4F-C220E16C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595-D4A8-4226-BCC6-E4EF5D27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7A3-4A1E-4757-8F81-9F82E411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812-5E01-4BEA-84A5-0DF2A27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85C-B0CF-4856-BAF2-103FE552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DF7-825C-4A7F-AD7D-0BAA2F97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883-6487-4547-9A76-A54CD6DC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779-1317-407E-960B-59A84E25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8AB-EDF4-49D0-ACA7-31761E46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52F-7212-40FD-8826-3E4C3462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B95-7759-4B74-9A9A-0D7D5B64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7A8C-8BA7-4FF2-A1D8-247F6DB03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1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30:06Z</dcterms:modified>
  <cp:revision>4</cp:revision>
  <dc:subject/>
  <dc:title>Слайд 1</dc:title>
</cp:coreProperties>
</file>