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0906-64D5-44C5-9F06-FCC0BDFDF1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4C4055-3712-48FE-84FF-816F5039E5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2F3-AC37-48B8-B8F7-5E908B9F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D1C-1AC3-4558-89CA-275A52FE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BAE-3326-427C-BA60-96C441B3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4EC-CFF8-4191-8A45-E43EE38D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45E-67F4-4A43-B4D5-726914AE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CC4-B6C1-4D46-AB02-CF962768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CAF-4D4C-4D7F-9D70-2BD35AA0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808-E2A0-4E0F-8C1A-60C3D096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C6A-DD91-4329-8431-BA3B3B84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7C9-A86F-4BBF-8051-02AADF6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795-777F-441E-80C8-CAF89FC9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FEC-051F-435B-B604-983347A4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4653-EFFD-4E32-8EE1-24852EE87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1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30:06Z</dcterms:modified>
  <cp:revision>4</cp:revision>
  <dc:subject/>
  <dc:title>Слайд 1</dc:title>
</cp:coreProperties>
</file>