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8EF9E-DD87-45D7-A4C9-AFD203F556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E8501E3-27B4-49D8-9A3B-6903B31042C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4287F-8FC9-42C7-8608-496AC8E44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A3FB-B76E-44F5-B802-E3F22570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7DC18-F62C-46FE-ABC4-3D7958ED6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BD4BA-76D8-4EC5-95DB-05467043D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4EE70-B52A-4A8D-A022-F0D922BB7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985E-EDBC-407B-8A4F-9AADF1952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33C3-1CBF-40B7-B178-E590818D7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04C5-85B4-4C10-995A-19339302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A33D-6965-4BD7-8232-AEA2636B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4E826-4200-4E6A-B809-EC56B3B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26C3-595E-4076-8596-183BA3D3B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D96D-2EA3-4448-A9F6-BD3BCB2B7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13817-6E2A-4F9A-BABB-DE6D37774B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4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2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1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30:06Z</dcterms:modified>
  <cp:revision>4</cp:revision>
  <dc:subject/>
  <dc:title>Слайд 1</dc:title>
</cp:coreProperties>
</file>